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A51E66-831F-47E8-9ECD-EBB5FC3D2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CS-Blöcke decken jeweils um die 80% der K.w. und S.c.-Gene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s zu 81 Gene, durchschnittlich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brochen von Segmenten mit durchschnittlich 3 Gene Lä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145 DCS-Blöcken wurden Genduplikationen in S.c. gefu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paraloge Geschwisterblöcke hätten nicht ohne den Vergleich mit K.w. festgestellt werden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ückkehr zu normaler Ploidie ohne Meiose oder Chromosomverl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 Zahl von Deletionsereign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letion von größeren Segmenten oder einzelnen Genen mö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alyse zeigte viele kleine Deletionen (meist 2 G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Umordnungen haben die Gene auf den Chromosomen durchmis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uptsächlich Stoffwechsel und Zellwachstum betr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teinkinasen und regulatorische Prot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geleitete Paraloge sind spezialisiert in der zeitlichen Expression und zellulären Lok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Orc1 – Bindung an Replikationsursp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ir3 (neu) – Telomerbind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letionsmutanten für jedes der Genpaare angefertig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letion des ursprünglichen paralogen Gens war in 18% letal (entspricht etwa dem Durchschnitt für alle S.c.-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geleitetes Gen kann nicht mehr die ursprüngliche Funktion überneh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rabidopsis – kürzlich Genomduplik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Polyploidie normalerweise nicht vorteilhaft und wird schnell beseitig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D-Theorie stützt sich lediglich auf 8% der Gene von S.c. und die potentiellen Schwesterregionen decken weniger als das halbe Genom 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:1 Abbildung für nahe verwandte erwar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kein großer Unterschied in Genzahl oder Genomlä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nur Chromosomenzahl könnte Indiz für Duplikation s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CB5-2E7B-4DA5-97F6-F0F3B194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CCD-6864-4C5A-92AA-E6DD5CB0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FCC-82C0-4976-9334-6EA1F4CE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C00-5216-4AEF-8520-8690B41D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E70D-DB52-43AB-9E4E-0D0BB68C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F7F3-9AEE-470B-9641-C7374BE6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EA74-4C01-43A6-AB98-2439AB2A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5F1F-DA82-48C2-9992-F4138E13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2B41-C438-41AA-8C23-67D854AE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95C3-2959-493C-BFD5-C41F44BE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C2E1-1334-4491-A983-4B4AFC17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6D8-3BFA-4E70-BA74-55CF9F66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1770-4021-4A92-AC4E-A28CA5C0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1C5E-B092-49A3-B218-1B538942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1FA3-5434-4E58-A481-C6443E14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5CFD-FE25-4859-ACA3-201E54BB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EEE4-88D9-4D1E-8E29-110E6480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270-7643-40E0-8A61-B521BF0E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377-5149-4129-BF5E-3BFD34D3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0B3-E794-4B74-93B0-9EFD3DBA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4F7-22B4-4215-95E6-485F9ED8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F92-927D-4FA5-9079-55DC6D1D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FD7-B27C-45F2-B535-3FD27199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FDA-9C70-4147-AA57-59B5FAB8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E62E-71FC-40BD-8FB0-25DFB6DDED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2250-12AC-4773-AF3B-BC11AF5EAC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985320"/>
            <a:ext cx="79218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666"/>
                </a:solidFill>
                <a:latin typeface="Arial"/>
              </a:rPr>
              <a:t>Beweis und evolutionäre Analyse einer kompletten Genomduplikation bei </a:t>
            </a:r>
            <a:r>
              <a:rPr b="0" i="1" lang="de-DE" sz="3600" spc="-1" strike="noStrike">
                <a:solidFill>
                  <a:srgbClr val="006666"/>
                </a:solidFill>
                <a:latin typeface="Arial"/>
              </a:rPr>
              <a:t>Saccharomyces cerevisia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02920" y="335772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Seminar „Genomanalyse von Modellorganismen“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Torsten Günther 29.05.06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6172200"/>
            <a:ext cx="86868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Verdana"/>
              </a:rPr>
              <a:t>Quelle</a:t>
            </a: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: Kellis, Birren &amp; Lander: „Proof and evolutionary analysis of ancient genome duplication in the yeast </a:t>
            </a:r>
            <a:r>
              <a:rPr b="0" i="1" lang="de-DE" sz="1300" spc="-1" strike="noStrike">
                <a:solidFill>
                  <a:srgbClr val="000000"/>
                </a:solidFill>
                <a:latin typeface="Verdana"/>
              </a:rPr>
              <a:t>Saccharomyces cerevisiae</a:t>
            </a: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“; </a:t>
            </a:r>
            <a:r>
              <a:rPr b="0" i="1" lang="de-DE" sz="1300" spc="-1" strike="noStrike">
                <a:solidFill>
                  <a:srgbClr val="000000"/>
                </a:solidFill>
                <a:latin typeface="Verdana"/>
              </a:rPr>
              <a:t>Nature</a:t>
            </a: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de-DE" sz="1300" spc="-1" strike="noStrike">
                <a:solidFill>
                  <a:srgbClr val="000000"/>
                </a:solidFill>
                <a:latin typeface="Verdana"/>
              </a:rPr>
              <a:t>428</a:t>
            </a:r>
            <a:r>
              <a:rPr b="0" lang="de-DE" sz="1300" spc="-1" strike="noStrike">
                <a:solidFill>
                  <a:srgbClr val="000000"/>
                </a:solidFill>
                <a:latin typeface="Verdana"/>
              </a:rPr>
              <a:t>:617-62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666"/>
                </a:solidFill>
                <a:latin typeface="Arial"/>
              </a:rPr>
              <a:t>Orthologe Blöcke von Gen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253 doubly conserved synteny (DCS) – Blöcke gefunden (orthologe Gene in gleicher Reihenfolge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Schwesterregionen gefund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90% der </a:t>
            </a:r>
            <a:r>
              <a:rPr b="0" i="1" lang="de-DE" sz="2100" spc="-1" strike="noStrike">
                <a:solidFill>
                  <a:srgbClr val="000000"/>
                </a:solidFill>
                <a:latin typeface="Verdana"/>
              </a:rPr>
              <a:t>K.w.-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Blöcke zu mindestens einem in S.c. übereinstimmend (12% zu 2 Blöck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90% der </a:t>
            </a:r>
            <a:r>
              <a:rPr b="0" i="1" lang="de-DE" sz="2100" spc="-1" strike="noStrike">
                <a:solidFill>
                  <a:srgbClr val="000000"/>
                </a:solidFill>
                <a:latin typeface="Verdana"/>
              </a:rPr>
              <a:t>S.c.-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Blöcke stimmen mit dem zugehörigen in </a:t>
            </a:r>
            <a:r>
              <a:rPr b="0" i="1" lang="de-DE" sz="2100" spc="-1" strike="noStrike">
                <a:solidFill>
                  <a:srgbClr val="000000"/>
                </a:solidFill>
                <a:latin typeface="Verdana"/>
              </a:rPr>
              <a:t>K.w.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 überei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auch die 8 Kluyveromyces-Centromere lassem sich je zwei der 16 Saccharomyces-Centromeren zuordn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Genomduplikation bewies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5157360"/>
            <a:ext cx="79995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DCS-Blöcke auf Chromosom 1 von </a:t>
            </a:r>
            <a:r>
              <a:rPr b="0" i="1" lang="de-DE" sz="2100" spc="-1" strike="noStrike">
                <a:solidFill>
                  <a:srgbClr val="000000"/>
                </a:solidFill>
                <a:latin typeface="Verdana"/>
              </a:rPr>
              <a:t>K.waltii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 u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den Chromosomen 4 und 12 auf </a:t>
            </a:r>
            <a:r>
              <a:rPr b="0" i="1" lang="de-DE" sz="2100" spc="-1" strike="noStrike">
                <a:solidFill>
                  <a:srgbClr val="000000"/>
                </a:solidFill>
                <a:latin typeface="Verdana"/>
              </a:rPr>
              <a:t>S.cerevisiae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volutionäre Analys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Genom von </a:t>
            </a:r>
            <a:r>
              <a:rPr b="0" i="1" lang="de-DE" sz="2900" spc="-1" strike="noStrike">
                <a:solidFill>
                  <a:srgbClr val="000000"/>
                </a:solidFill>
                <a:latin typeface="Verdana"/>
              </a:rPr>
              <a:t>S.cerevisiae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hat lediglich 10% mehr Gen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88% der paralogen Gene verl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viele lokale Deletio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457 orthologe Genpaare identifiziert bei denen beide Kopien noch vorhanden sin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666"/>
                </a:solidFill>
                <a:latin typeface="Arial"/>
              </a:rPr>
              <a:t>Schnell evolvierte Genpa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bei 76 der 457 Paare zeigt min. eines der S.c.-Gene eine 50% schnellere Änderung als der Durchschnit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in 95% der Fälle war davon nur eines der beiden Gene betroff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eines der paralogen Gene behält die ursprüngliche Funktion, das andere entwickelt aus der alten Funktion eine neu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mmbäu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3994200" cy="1461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05120" y="4267080"/>
            <a:ext cx="5387760" cy="1451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05120" y="320040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urchschnittliche Proteindivers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5943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ispiel für beschleunigte Proteindiversität bei einer der beiden Kop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eitere Ergebnisse der Analys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Deletion der abgeleiteten paralogen Gene auf reichem Medium nie let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unter guten Bedingungen ist deren Funktion nicht essentiel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32 der 457 Paare zeigten Änderung in der Codonbenutzung, aber nicht in der ASn-Sequenz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60 Paare zeigten verlangsamte Proteinevolution (Histone, ribosomale Proteine, Initiations-/Elongationsfaktoren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sblic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nomduplikation gefolgt von Deletionen und Spezialisierungen scheint wichtig für evolutionäre Innov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wahrscheinlich effizienter als viele einzelne lokale Duplikation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Vergleich mit verwandten Spezies(ohne durchlaufene Duplikation) bringt viele Erkenntnis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ähnliche Analyse könnte auch für andere Organismen ein fruchtbares Forschungsprojekt se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fba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inleitu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chweis der Duplik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olutionäre Analy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usblic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inleitung - Genomduplik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Genomduplikation(WGD) mächtiger Mechanismus für evolutionäre Innov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gefolgt von massiven Deletionen und Spezialisierungen der Ge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bisher kaum erforscht/verstand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666"/>
                </a:solidFill>
                <a:latin typeface="Arial"/>
              </a:rPr>
              <a:t>Einleitung – S.cerevisia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viele paraloge Blöcke von Genen vorhand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Duplikationsereignisse schon länger vermut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WGD oder lokale Duplikatione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263700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5229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ufspaltung der beiden Arten und Genomduplikation bei Saccharomy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achweis der Duplik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5229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nverlust und Spezialisierung bei Saccharomy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achweis der Duplik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achweis der Duplik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Hefe-Art muss gefunden werden, die sich vor der Duplikation abgespalten h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1:2 Abbildung zwischen den Genomen der beiden Arten muss gefunden werd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Bedingungen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jede Region im Verwandtengenom hat 2 Schwesterregionen in </a:t>
            </a:r>
            <a:r>
              <a:rPr b="0" i="1" lang="de-DE" sz="1900" spc="-1" strike="noStrike">
                <a:solidFill>
                  <a:srgbClr val="000000"/>
                </a:solidFill>
                <a:latin typeface="Verdana"/>
              </a:rPr>
              <a:t>S.cerevisia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in Schwesterregionen Gene mit gleicher Abfolge, wie im Verwandte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quasi jede Region von </a:t>
            </a:r>
            <a:r>
              <a:rPr b="0" i="1" lang="de-DE" sz="1900" spc="-1" strike="noStrike">
                <a:solidFill>
                  <a:srgbClr val="000000"/>
                </a:solidFill>
                <a:latin typeface="Verdana"/>
              </a:rPr>
              <a:t>S.cerevisiae </a:t>
            </a: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hat eine korrespondierende Region im Vorfahre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suchte Hefeart in </a:t>
            </a:r>
            <a:r>
              <a:rPr b="0" i="1" lang="de-DE" sz="2500" spc="-1" strike="noStrike">
                <a:solidFill>
                  <a:srgbClr val="000000"/>
                </a:solidFill>
                <a:latin typeface="Verdana"/>
              </a:rPr>
              <a:t>Kluyveromyces waltii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gefund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6666"/>
                </a:solidFill>
                <a:latin typeface="Arial"/>
              </a:rPr>
              <a:t>K.waltii </a:t>
            </a:r>
            <a:r>
              <a:rPr b="0" lang="de-DE" sz="3600" spc="-1" strike="noStrike">
                <a:solidFill>
                  <a:srgbClr val="006666"/>
                </a:solidFill>
                <a:latin typeface="Arial"/>
              </a:rPr>
              <a:t>vs.</a:t>
            </a:r>
            <a:r>
              <a:rPr b="0" i="1" lang="de-DE" sz="3600" spc="-1" strike="noStrike">
                <a:solidFill>
                  <a:srgbClr val="006666"/>
                </a:solidFill>
                <a:latin typeface="Arial"/>
              </a:rPr>
              <a:t> S.cerevisia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370160" y="1827360"/>
          <a:ext cx="6873840" cy="2592360"/>
        </p:xfrm>
        <a:graphic>
          <a:graphicData uri="http://schemas.openxmlformats.org/drawingml/2006/table">
            <a:tbl>
              <a:tblPr/>
              <a:tblGrid>
                <a:gridCol w="2062080"/>
                <a:gridCol w="2977920"/>
                <a:gridCol w="183384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. 532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einkodierende Ge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1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NA Ge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romosom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,7 M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npaar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M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1403280" y="494172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6360" y="4653000"/>
            <a:ext cx="68407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93% der Gene aus 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K.waltii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zeigen eine Ähnlichkeit zu 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S.cerevisia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G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uche nach orthologen Reg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2:13:53Z</dcterms:created>
  <dc:creator>gilb</dc:creator>
  <dc:description/>
  <dc:language>en-US</dc:language>
  <cp:lastModifiedBy>Torsten</cp:lastModifiedBy>
  <dcterms:modified xsi:type="dcterms:W3CDTF">2006-05-28T22:39:14Z</dcterms:modified>
  <cp:revision>11</cp:revision>
  <dc:subject/>
  <dc:title>Beweis und Analyse einer Duplikation des kompletten Genoms von S.cerevisiae</dc:title>
</cp:coreProperties>
</file>