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250-6EE6-4CC0-BC6C-18B3A5E3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55A-8C53-4605-98C0-1EA33137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244-AA1E-4254-9A07-09511542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14E-6CBD-4AD9-874A-5CA80B2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88E-359B-4883-B8E7-F1049E4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51C-44C7-425C-B4C0-476D1CC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9B7-B9E3-4C2A-8AD0-E031D62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2FF-6370-43C3-920B-0CE5D68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8F5-D767-400A-94CB-C60DD1B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C0E-A088-4BAC-BA3C-F2D9063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5E7-D250-4D83-AB95-1412F1D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3BF-498E-4B1F-92FB-C7CF898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F81-1D59-4A5C-91F3-877E3731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nar Genomanalyse von Modellorganism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trag:  Eucaryotic genome evolution through spontaneous duplication of large chromosomal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reas Fischer  22.05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uria-Delbruck fluctuation 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44661"/>
          <a:stretch/>
        </p:blipFill>
        <p:spPr>
          <a:xfrm>
            <a:off x="703440" y="1600200"/>
            <a:ext cx="77356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uria-Delbruck fluctuation 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23361"/>
          <a:stretch/>
        </p:blipFill>
        <p:spPr>
          <a:xfrm>
            <a:off x="703440" y="1600200"/>
            <a:ext cx="7735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uria-Delbruck fluctuation 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13742"/>
          <a:stretch/>
        </p:blipFill>
        <p:spPr>
          <a:xfrm>
            <a:off x="703440" y="1600200"/>
            <a:ext cx="77356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uria-Delbruck fluctuation 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3440" y="1600200"/>
            <a:ext cx="773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erhältniss „slow-growth“(sg) zu „Revertants“(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 = Generations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_sg = Anzahl sg-Zellen bei 0.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_r   = Anzahl r-Zellen bei 0.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#sg = sg-Anzahl nach n Generationen: k_sg*2^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#r = r-Anzahl nach n Generationen: k_sg*4^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 Grafik: #sg = 3*2^2=12, #r = 1*4^2 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_r/k_sg = 1/1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40 Generation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#k_r / #k_sg =(1*4^40)/(1*10^9* 2^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 ca. 1100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3680" y="1268280"/>
            <a:ext cx="8699400" cy="524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85918"/>
          <a:stretch/>
        </p:blipFill>
        <p:spPr>
          <a:xfrm>
            <a:off x="179280" y="1268280"/>
            <a:ext cx="87012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3680" y="1268280"/>
            <a:ext cx="8699400" cy="524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40214" b="54983"/>
          <a:stretch/>
        </p:blipFill>
        <p:spPr>
          <a:xfrm>
            <a:off x="179280" y="1268280"/>
            <a:ext cx="5202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3680" y="1268280"/>
            <a:ext cx="8699400" cy="5240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40214" b="0"/>
          <a:stretch/>
        </p:blipFill>
        <p:spPr>
          <a:xfrm>
            <a:off x="179280" y="1268280"/>
            <a:ext cx="52023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3680" y="1268280"/>
            <a:ext cx="8699400" cy="524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54983"/>
          <a:stretch/>
        </p:blipFill>
        <p:spPr>
          <a:xfrm>
            <a:off x="179280" y="1268280"/>
            <a:ext cx="87012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3680" y="1268280"/>
            <a:ext cx="8699400" cy="5240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701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ederung des Vortrag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wurde untersuc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klärung der Untersu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ammenfassung, Verallgemeineru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Kr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omparative genomic hybridization (CGH) für die Klassen I, II und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NA-samples entsprechend Position in den Chromosomen auf DNA-microarray angeord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tels Fluoreszenzmarkern können anhand des Fluoreszenzniveaus DNA-Duplikationen erkann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ößenverteilung der Duplikat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ößenverteilung der Duplikat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86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usammenfassung der Ergebni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öße der duplizierten Abschnit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1kb-490kb mit entsprechend vielen O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nn Beitrag zur Evolution leis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t der Duplikatio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rachromosomal direct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imeric O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allgemeinerung der Ergebniss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existieren ähnliche Ergebnisse für ein  anderes Gen auf einem anderem Chromosom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Deletion =&gt; auch verlangsamtes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achs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gebnisse evtl. übertragbar auf gesamtes Ge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i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gebungsbedingungen konstant zugunsten exponentiellen Wachst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r Selektionsdruck zugunsten der Duplikatio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tragbarkeit auf Evolution unter anderen Umgebungsbedingungen fragl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und 2. Was wurde untersucht und war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elle Untersuchung der Verdopplung eines Gens in der Bäckerhe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konkreten Untersuchung soll Hinweise geben für den abstrakten Kontex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Titel des Papers: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ucaryotic genome evolution through spontaneous duplication of large chromosomal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Warum wurde die Untersuchung durchgefüh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verdopplung erster Schritt zur Entwicklung von Genfamil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verdopplung als wichtigster Mechanismus zur Entwicklung von neuen Funk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 phänotypischer Veränderung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 Sequenz-Daten hat man viele Hinweise für die wichtige Rolle von Duplikationen in der Evolution des Eukaryotengen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elle Belege nur sehr wen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se Untersu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rklärung der Untersuchu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lung eines „gene dosage assay“ für sacharomyces cerevisia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letion des Gens RPL20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lbierung der Wachstumsrate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dopplung des sehr ähnlichen Gens RPL20B (99%der Nukleotide glei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derherstellung der ursprünglichen Wachstums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äckerhefe Zellzy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1862280"/>
            <a:ext cx="5717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rklärung der Untersuchu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00 unabhängige Kulturen des langsam wachsenden haploiden Stranges ohne RPL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chstum für 80 Gener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ährenddessen Untersuchung des Auftretens von spontanen „Revertants“ mittels Luria-Delbruck fluctuation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nach genaue Untersuchung aller Stämme die nur noch aus Revertants bestehen (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rklärung des Luria-Delbruck fluctuation a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ll zeigen das Duplikationen spontan nicht induz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deutlichung das bei geg. Bedingungen geringe Mutationsrate für völlige Dominanz von „Revertants“ ausre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 8 Generationen Teilprobe ausplatt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uria-Delbruck fluctuation a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68717"/>
          <a:stretch/>
        </p:blipFill>
        <p:spPr>
          <a:xfrm>
            <a:off x="703440" y="1600200"/>
            <a:ext cx="77356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50:54Z</dcterms:created>
  <dc:creator>andreas</dc:creator>
  <dc:description/>
  <dc:language>en-US</dc:language>
  <cp:lastModifiedBy>andreas</cp:lastModifiedBy>
  <dcterms:modified xsi:type="dcterms:W3CDTF">2006-05-22T13:45:51Z</dcterms:modified>
  <cp:revision>173</cp:revision>
  <dc:subject/>
  <dc:title>Seminar Selbstmodifizierende Systeme</dc:title>
</cp:coreProperties>
</file>