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42840" y="746280"/>
            <a:ext cx="497232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4"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9446760"/>
            <a:ext cx="297180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9446760"/>
            <a:ext cx="297180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7C3D4-F12F-421A-BD2C-AB0A251976C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42840" y="746280"/>
            <a:ext cx="4972320" cy="3728880"/>
          </a:xfrm>
          <a:prstGeom prst="rect">
            <a:avLst/>
          </a:prstGeom>
          <a:ln w="0">
            <a:noFill/>
          </a:ln>
        </p:spPr>
      </p:sp>
      <p:sp>
        <p:nvSpPr>
          <p:cNvPr id="125"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gleichende Metagenomic bei Mikroorganismen aus verschiedenen Lebensräum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42840" y="746280"/>
            <a:ext cx="4972320" cy="3728880"/>
          </a:xfrm>
          <a:prstGeom prst="rect">
            <a:avLst/>
          </a:prstGeom>
          <a:ln w="0">
            <a:noFill/>
          </a:ln>
        </p:spPr>
      </p:sp>
      <p:sp>
        <p:nvSpPr>
          <p:cNvPr id="141"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suchung, ob unabhängige Proben von gleichen, aber geografisch separierten Gemeinschaften, ähnlichere funktionelle Profile aufweisen, als Proben von komplett unterschiedlichen Gebie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vorhergesagten Proteine wurden in 4 funktionelle Kategorien eingeteilt: 1.individuelle Gene (vom sequenzierten Genom abgeleitete orthologe Gruppen);2.Gruppen von Genen, die im Genom häufig benachbart auftreten; 3. höher geordnete zelluläre Prozesse, welche Gene dafür verantwortlich sind, wurden der KEGG (Kyoto Encyclopedia of Genes and Genomes) entnommen.;4. funktionelle Kategorien aus der COG-Datenbank</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42840" y="746280"/>
            <a:ext cx="4972320" cy="3728880"/>
          </a:xfrm>
          <a:prstGeom prst="rect">
            <a:avLst/>
          </a:prstGeom>
          <a:ln w="0">
            <a:noFill/>
          </a:ln>
        </p:spPr>
      </p:sp>
      <p:sp>
        <p:nvSpPr>
          <p:cNvPr id="143"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wei-Wege-Clustering der Proben und COG-M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 und unterrepresentierte Kategorien sind in rot und blau dargestel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Baum entspricht folgenden Überlegungen: die Organismen aus den Proben aus den ähnlichen Lebensräumen sind zusammengeclustert, dies suggeriert, dass die Proteinprofile bei den Organismengemeinschaften, an die ähnliche Lebensbedingungen, hinsichtlich Metabolismus usw. gestellt sind, auch fast gleich si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42840" y="746280"/>
            <a:ext cx="4972320" cy="3728880"/>
          </a:xfrm>
          <a:prstGeom prst="rect">
            <a:avLst/>
          </a:prstGeom>
          <a:ln w="0">
            <a:noFill/>
          </a:ln>
        </p:spPr>
      </p:sp>
      <p:sp>
        <p:nvSpPr>
          <p:cNvPr id="145"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m jetzt signifikant die Unterschiede und Gemeinsamkeiten und wichtigsten Funktionen der einzelnen Organismengruppen herauszuheben, wurden systematisch die Unterschiede in den Genen untersu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r wenige der orthologen Gruppen gibt es wirklich nur in einer der Organismengruppen, z.B. 73 Arten der cellobiose Phosphorylase wurden nur in den Ackerbodenproben gefunden, nichts davon in den Sargassopro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enso wurden homologe des Bakteriorhodopsins nur in den Sargassoorganismen nachgewiesen, in den Tiefseeproben n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Vergleich von Operons erbrachte noch weitere Erkenntnisse: die spezifischsten davon sind Kodierungen für Systeme, die für den Transport von Ionen und zellulärer Komponenten zuständig sind. An diesen sind die Überlebensstrategien und Umweltadaptionen der Mikroorganismen deutlich erkennbar. Bei den Tiefseeproben handelt es sich dabei um organische Osmolite und CO 3-Exporter gekoppelt an die oxidative Phosphorylierung. Die Ackerbodenprobe dagegen ziegt eine hohe Anzahl an Operons, die für aktive potassium channeling, kodieren. Jede Organismengruppe benötigt je nach Umwelt andere organische und anorganische Verbindunge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42840" y="746280"/>
            <a:ext cx="4972320" cy="3728880"/>
          </a:xfrm>
          <a:prstGeom prst="rect">
            <a:avLst/>
          </a:prstGeom>
          <a:ln w="0">
            <a:noFill/>
          </a:ln>
        </p:spPr>
      </p:sp>
      <p:sp>
        <p:nvSpPr>
          <p:cNvPr id="147"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 guter letzt: die Analysen der Gene und Funktionseinheiten zeigen schon bekannte Aspekte, z.B. einige nutrition conditions??? Gibt aber halt auch Aufschluss über neue Gene, die für die einzelnen Lebensarten von nöten sind. Diese ganzen Erkenntnisse könnten dann z. B. bei der Entwicklung zur Nutzung neuer Energieresourcen und der Beobachtung von Verschmutzungsgrad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42840" y="746280"/>
            <a:ext cx="4972320" cy="3728880"/>
          </a:xfrm>
          <a:prstGeom prst="rect">
            <a:avLst/>
          </a:prstGeom>
          <a:ln w="0">
            <a:noFill/>
          </a:ln>
        </p:spPr>
      </p:sp>
      <p:sp>
        <p:nvSpPr>
          <p:cNvPr id="127"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whole genome shotgun Verfahren hat die Genomsequenzierung revolutionie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verzichtet auf vorheriges Wissen über die Reihenfolge von Klon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attdessen wird die gesamte Genomsequenz in einer großen Zahl zufällig platzierter Reads sequenziert (”shotg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Anschluß werden die einzelnen Reads anhand ihrer Überlappungen von einem Computerprogramm zusammengesetz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42840" y="746280"/>
            <a:ext cx="4972320" cy="3728880"/>
          </a:xfrm>
          <a:prstGeom prst="rect">
            <a:avLst/>
          </a:prstGeom>
          <a:ln w="0">
            <a:noFill/>
          </a:ln>
        </p:spPr>
      </p:sp>
      <p:sp>
        <p:nvSpPr>
          <p:cNvPr id="129"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Worum geht es in diesem Artike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Grundlage: mittels „shotgun sequencing“ aus den isolierten DNA-Sequenzen erhalten</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ingerabdrücke</a:t>
            </a:r>
            <a:r>
              <a:rPr b="0" lang="de-DE" sz="1200" spc="-1" strike="noStrike">
                <a:solidFill>
                  <a:srgbClr val="000000"/>
                </a:solidFill>
                <a:latin typeface="Wingdings"/>
                <a:ea typeface="Wingdings"/>
              </a:rPr>
              <a:t></a:t>
            </a:r>
            <a:r>
              <a:rPr b="0" lang="de-DE" sz="1200" spc="-1" strike="noStrike">
                <a:solidFill>
                  <a:srgbClr val="000000"/>
                </a:solidFill>
                <a:latin typeface="Arial"/>
              </a:rPr>
              <a:t> die die schon bekannten Eigenschaften der als Probe genommenen Organismen wiederg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ch vergleichende Analyse, die Gen-zentriert ist </a:t>
            </a:r>
            <a:r>
              <a:rPr b="0" lang="de-DE" sz="1200" spc="-1" strike="noStrike">
                <a:solidFill>
                  <a:srgbClr val="000000"/>
                </a:solidFill>
                <a:latin typeface="Wingdings"/>
                <a:ea typeface="Wingdings"/>
              </a:rPr>
              <a:t></a:t>
            </a:r>
            <a:r>
              <a:rPr b="0" lang="de-DE" sz="1200" spc="-1" strike="noStrike">
                <a:solidFill>
                  <a:srgbClr val="000000"/>
                </a:solidFill>
                <a:latin typeface="Arial"/>
              </a:rPr>
              <a:t> dies gibt neue Möglichkeiten diese Umgebungen zu interpretieren und Diagnosen zu stell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42840" y="746280"/>
            <a:ext cx="4972320" cy="3728880"/>
          </a:xfrm>
          <a:prstGeom prst="rect">
            <a:avLst/>
          </a:prstGeom>
          <a:ln w="0">
            <a:noFill/>
          </a:ln>
        </p:spPr>
      </p:sp>
      <p:sp>
        <p:nvSpPr>
          <p:cNvPr id="131"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bwohl die Mirkroorganismen allgegenwärtig s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lecht kultivierbar unter Standardbedingungen im La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meisten Sequenzierungsprojekte zielten auf 16s rRNA ab und gaben schon einen Einblick in die phylogenetische Diversität, aber auch in Lebensart und Metabolismus dieser Mikroben, die ja viele verschiedene Nischen bilden. Es gab auch Klonsequenzierungsversuche mit dem künstlichen Bakterienchromosom, jedoch bietet das, hier im Paper als „high-throughput sequencing“ benannt, whole-genome-sequencing einen globaleren Einblick in die Gemeinschaften der Mrikrob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42840" y="746280"/>
            <a:ext cx="4972320" cy="3728880"/>
          </a:xfrm>
          <a:prstGeom prst="rect">
            <a:avLst/>
          </a:prstGeom>
          <a:ln w="0">
            <a:noFill/>
          </a:ln>
        </p:spPr>
      </p:sp>
      <p:sp>
        <p:nvSpPr>
          <p:cNvPr id="133"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stellt sich nun die Frage wie groß der Umfang der zu interpretierenden Daten wird, wenn nicht die Möglichkeit besteht einzelne Genomassemblies zu rate zu ziehen, denn die meisten Mirkroorganismengemeinschaften sind sehr komplex und noch nicht als Genomassemblie zugängl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ist wichtiger festzustellen welche Proteine von einer kompletten Mirkobengemeinschaft codiert, als zu wissen welche spezifischen Organismen dafür zuständig s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heißt, die Mikroorganismen aus den Proben sind an ihre jeweilige Umwelt angepasst und haben dafür Eigenschaften entwickelt, nach denen man ganze Gemeinschaften unterscheiden kan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42840" y="746280"/>
            <a:ext cx="4972320" cy="3728880"/>
          </a:xfrm>
          <a:prstGeom prst="rect">
            <a:avLst/>
          </a:prstGeom>
          <a:ln w="0">
            <a:noFill/>
          </a:ln>
        </p:spPr>
      </p:sp>
      <p:sp>
        <p:nvSpPr>
          <p:cNvPr id="135"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Proben, die hier untersucht wurden stammen aus normal landwirtschaftlich genutztem Boden und aus drei verschiedenen voneinander isolierten Walfriedhöfen in der Tief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de Umgebungen sind sehr nährstoffreich, wobei dafür unterschiedliche Quellen verantwortlich sind, einmal Pflanzenreste auf dem Ackerboden und dann lipidhaltige Walknoc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erst wurde eine Diversitätsanalyse mittels PCR durchgeführt mit small rRNA Bibliotheken, die speziell für Eukaryoten, Bakterien, Archaebakterien generiert wurden.</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gebnis: Ackerboden: </a:t>
            </a:r>
            <a:r>
              <a:rPr b="0" lang="de-DE" sz="1100" spc="-1" strike="noStrike">
                <a:solidFill>
                  <a:srgbClr val="000000"/>
                </a:solidFill>
                <a:latin typeface="Arial"/>
              </a:rPr>
              <a:t>viele Bakterienarten, einige Archaespezies, Pilze, einzellige Eukaryoten – </a:t>
            </a:r>
            <a:r>
              <a:rPr b="0" lang="en-US" sz="1100" spc="-1" strike="noStrike">
                <a:solidFill>
                  <a:srgbClr val="000000"/>
                </a:solidFill>
                <a:latin typeface="Arial Unicode MS"/>
                <a:ea typeface="Arial Unicode MS"/>
              </a:rPr>
              <a:t>Ʃ=847 verschiedene 16S rRNA Typen von mehr 12 Stämme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Arial Unicode MS"/>
              </a:rPr>
              <a:t>	</a:t>
            </a:r>
            <a:r>
              <a:rPr b="0" lang="en-US" sz="1100" spc="-1" strike="noStrike">
                <a:solidFill>
                  <a:srgbClr val="000000"/>
                </a:solidFill>
                <a:latin typeface="Arial Unicode MS"/>
                <a:ea typeface="Arial Unicode MS"/>
              </a:rPr>
              <a:t>	</a:t>
            </a:r>
            <a:r>
              <a:rPr b="0" lang="en-US" sz="1100" spc="-1" strike="noStrike">
                <a:solidFill>
                  <a:srgbClr val="000000"/>
                </a:solidFill>
                <a:latin typeface="Arial Unicode MS"/>
                <a:ea typeface="Arial Unicode MS"/>
              </a:rPr>
              <a:t>Walfriedhof: weniger unterschiedlich und weniger gut verteilt und es wird angenommen, dass diese Probe 25-150 verschiedene 16S rRNA Typen enthält- dies ist damit zu erklären, dass die dortigen ökologischen Nischen viel zu extreme und spezielle Lebensbedingungen aufweise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Arial Unicode MS"/>
              </a:rPr>
              <a:t> </a:t>
            </a:r>
            <a:r>
              <a:rPr b="0" lang="en-US" sz="1100" spc="-1" strike="noStrike">
                <a:solidFill>
                  <a:srgbClr val="000000"/>
                </a:solidFill>
                <a:latin typeface="Arial Unicode MS"/>
                <a:ea typeface="Arial Unicode MS"/>
              </a:rPr>
              <a:t>Diagramm zeigen</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42840" y="746280"/>
            <a:ext cx="4972320" cy="3728880"/>
          </a:xfrm>
          <a:prstGeom prst="rect">
            <a:avLst/>
          </a:prstGeom>
          <a:ln w="0">
            <a:noFill/>
          </a:ln>
        </p:spPr>
      </p:sp>
      <p:sp>
        <p:nvSpPr>
          <p:cNvPr id="137"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 sieht, dass die Kurve noch keine Sättigung erreicht hat und man hat mit einer Schätzmethode berechnet, dass es mehr als 3000 Ribotypes geben mu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42840" y="746280"/>
            <a:ext cx="4972320" cy="3728880"/>
          </a:xfrm>
          <a:prstGeom prst="rect">
            <a:avLst/>
          </a:prstGeom>
          <a:ln w="0">
            <a:noFill/>
          </a:ln>
        </p:spPr>
      </p:sp>
      <p:sp>
        <p:nvSpPr>
          <p:cNvPr id="139"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m zu testen, ob die beobachteten orthologen Gruppen representativ sind für alle Gruppen, wurden die orthologen Gruppen, die mit zunehmenden Sequenzierungslevel beobachtet wurden, geplottet. Für alle Proben ist die Sättigung für häufig auftretende Orthologe schon nach kurzer Zeit sichtbar, während die generelle Steigung der Kurven Information über die gesamte Diversität der Gemeinschaft aufdeckt. Es wurden noch Vergleiche mit COGs und der Pfam Datenbanken gemacht, damit eine zufällige Ähnlichkeit der Kurven ausgeschlossen werden kan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F6D9C-3770-4B97-8882-49F637205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4FF45-0157-4334-A19D-B5A44AF55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3E6CE-C2F4-4247-B570-8D80D8F0E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3052B-D62B-4376-8B17-85A809D64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92199-6393-4981-A4EA-5A8628D09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6CF87-DCB2-4EC7-ADE8-B38ED159A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E1257-0027-4AA1-93CB-DBCD58C92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62571-6E97-47BB-B763-B10434416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7F705-4152-4152-BE54-357FCA47D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844FF-8705-47BF-AC2B-AB87F1EF9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5D69C-D8C5-4843-B4CE-A06FAA0AA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83FCA-884E-4AA6-85CA-0EE167556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7B753-A38E-4E88-A962-2A6A70C6D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36E0C-6588-4AA9-B9D4-64351F19F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C553A-1CA3-4B3B-B525-5E8A38846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6CA9DB-2D09-4E3F-9D36-1203F8F51A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A04319-3822-4EFC-A2E7-78262F69C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A5EA0-EC7E-4292-A9FA-E56081618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7343E-263B-4C85-BC01-E88B63B72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FFF8D-43EB-4BB3-A880-900508280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10FF1-94B3-4B0D-A13C-02F03DD82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E36A8-AB89-4E3E-A048-B953E45C5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A2C8F-033A-4318-9AE1-476417BD8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AF76B-A759-44F8-BDE2-D069A6800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451C-2689-4D45-9253-19AF3F671739}"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2280" y="83808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39640" y="838080"/>
            <a:ext cx="228600" cy="22860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927000" y="838080"/>
            <a:ext cx="228600" cy="22860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20F2-FDAF-475A-B856-111A4604D436}"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63440" y="2103480"/>
            <a:ext cx="347760" cy="347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739800" y="2104920"/>
            <a:ext cx="349200" cy="34776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317600" y="2104920"/>
            <a:ext cx="347760" cy="34776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9999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Arial"/>
              </a:rPr>
              <a:t>Comparative Metagenomics of Microbial Communities</a:t>
            </a:r>
            <a:endParaRPr b="0" lang="en-US" sz="48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rtrag: 29.05.06, Franziska Me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tikel: SCIENCE, 22.04.05, Sasannah Green Tringe</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3366ff"/>
                </a:solidFill>
                <a:latin typeface="Arial"/>
              </a:rPr>
              <a:t>Comparative Metagenomics of Microbial Communities</a:t>
            </a:r>
            <a:endParaRPr b="0" lang="en-US" sz="40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abhängige Proben von gleichen, aber geografisch separierten Gemeinschaften, ähnlichere funktionelle Profile, als Proben von komplett unterschiedlichen Gebieten</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teineinteilung in 4 Kategori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3366ff"/>
                </a:solidFill>
                <a:latin typeface="Arial"/>
              </a:rPr>
              <a:t>Comparative Metagenomics of Microbial Communities</a:t>
            </a:r>
            <a:endParaRPr b="0" lang="en-US" sz="4000" spc="-1" strike="noStrike">
              <a:solidFill>
                <a:srgbClr val="000000"/>
              </a:solidFill>
              <a:latin typeface="Arial"/>
            </a:endParaRPr>
          </a:p>
        </p:txBody>
      </p:sp>
      <p:pic>
        <p:nvPicPr>
          <p:cNvPr id="119" name="" descr=""/>
          <p:cNvPicPr/>
          <p:nvPr/>
        </p:nvPicPr>
        <p:blipFill>
          <a:blip r:embed="rId1"/>
          <a:stretch/>
        </p:blipFill>
        <p:spPr>
          <a:xfrm>
            <a:off x="0" y="1484280"/>
            <a:ext cx="9144000" cy="534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3366ff"/>
                </a:solidFill>
                <a:latin typeface="Arial"/>
              </a:rPr>
              <a:t>Comparative Metagenomics of Microbial Communities</a:t>
            </a:r>
            <a:endParaRPr b="0" lang="en-US" sz="4000" spc="-1" strike="noStrike">
              <a:solidFill>
                <a:srgbClr val="000000"/>
              </a:solidFill>
              <a:latin typeface="Arial"/>
            </a:endParaRPr>
          </a:p>
        </p:txBody>
      </p:sp>
      <p:pic>
        <p:nvPicPr>
          <p:cNvPr id="121" name="" descr=""/>
          <p:cNvPicPr/>
          <p:nvPr/>
        </p:nvPicPr>
        <p:blipFill>
          <a:blip r:embed="rId1"/>
          <a:stretch/>
        </p:blipFill>
        <p:spPr>
          <a:xfrm>
            <a:off x="1692360" y="1484280"/>
            <a:ext cx="5904000" cy="537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3366ff"/>
                </a:solidFill>
                <a:latin typeface="Arial"/>
              </a:rPr>
              <a:t>Comparative Metagenomics of Microbial Communities</a:t>
            </a:r>
            <a:endParaRPr b="0" lang="en-US" sz="40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Kritik: noch genügend uncharakterisierte Gene – könnten noch mehr Aufschluss bringen über Spezifität und Adaption</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Zu guter letzt: schon bekannte Aspekte bestätigt, aber neue Erkenntnisse für Entwicklungszwecke nutzba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66ff"/>
                </a:solidFill>
                <a:latin typeface="Arial"/>
              </a:rPr>
              <a:t>Comparative Metagenomics of Microbial Communities</a:t>
            </a:r>
            <a:endParaRPr b="0" lang="en-US" sz="3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Was ist Metagenomic?</a:t>
            </a:r>
            <a:endParaRPr b="0" lang="en-US" sz="3000" spc="-1" strike="noStrike">
              <a:solidFill>
                <a:srgbClr val="000000"/>
              </a:solidFill>
              <a:latin typeface="Arial"/>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ochmolekulare genomische DNA wird direkt aus der Umweltprobe extrahiert und kloniert</a:t>
            </a:r>
            <a:endParaRPr b="0" lang="en-US" sz="2800" spc="-1" strike="noStrike">
              <a:solidFill>
                <a:srgbClr val="000000"/>
              </a:solidFill>
              <a:latin typeface="Arial"/>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equenzierung mittels „Whole Genome Shotgun Sequen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66ff"/>
                </a:solidFill>
                <a:latin typeface="Arial"/>
              </a:rPr>
              <a:t>Comparative Metagenomics of Microbial Communities</a:t>
            </a:r>
            <a:endParaRPr b="0" lang="en-US" sz="3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harakterisierung und Vergleich der metabolischen Fähigkeiten von marinen und terrestrischen Mirkroorganismen</a:t>
            </a:r>
            <a:endParaRPr b="0" lang="en-US" sz="2800" spc="-1" strike="noStrike">
              <a:solidFill>
                <a:srgbClr val="000000"/>
              </a:solidFill>
              <a:latin typeface="Arial"/>
            </a:endParaRPr>
          </a:p>
          <a:p>
            <a:pPr marL="343080" indent="-343080">
              <a:lnSpc>
                <a:spcPct val="9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rundlage: Vielzahl nicht zusammenhängender Sequenzdaten</a:t>
            </a:r>
            <a:endParaRPr b="0" lang="en-US" sz="2800" spc="-1" strike="noStrike">
              <a:solidFill>
                <a:srgbClr val="000000"/>
              </a:solidFill>
              <a:latin typeface="Arial"/>
            </a:endParaRPr>
          </a:p>
          <a:p>
            <a:pPr marL="343080" indent="-343080">
              <a:lnSpc>
                <a:spcPct val="9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Quantitative Genomananlysen zeigen habitat-spezifische „Fingerabdrücke“</a:t>
            </a:r>
            <a:endParaRPr b="0" lang="en-US" sz="2800" spc="-1" strike="noStrike">
              <a:solidFill>
                <a:srgbClr val="000000"/>
              </a:solidFill>
              <a:latin typeface="Arial"/>
            </a:endParaRPr>
          </a:p>
          <a:p>
            <a:pPr marL="343080" indent="-343080">
              <a:lnSpc>
                <a:spcPct val="9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dentifizierung von Genen, die für diesen Lebensraum spezifisch sin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66ff"/>
                </a:solidFill>
                <a:latin typeface="Arial"/>
              </a:rPr>
              <a:t>Comparative Metagenomics of Microbial Communities</a:t>
            </a:r>
            <a:endParaRPr b="0" lang="en-US" sz="3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bisher:</a:t>
            </a:r>
            <a:endParaRPr b="0" lang="en-US" sz="3000" spc="-1" strike="noStrike">
              <a:solidFill>
                <a:srgbClr val="000000"/>
              </a:solidFill>
              <a:latin typeface="Arial"/>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enig Wissen über Mehrheit der Mikroben, da schlecht kultivierbar</a:t>
            </a:r>
            <a:endParaRPr b="0" lang="en-US" sz="2800" spc="-1" strike="noStrike">
              <a:solidFill>
                <a:srgbClr val="000000"/>
              </a:solidFill>
              <a:latin typeface="Arial"/>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arget meist 16S rRNA</a:t>
            </a:r>
            <a:endParaRPr b="0" lang="en-US" sz="2800" spc="-1" strike="noStrike">
              <a:solidFill>
                <a:srgbClr val="000000"/>
              </a:solidFill>
              <a:latin typeface="Arial"/>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ünstliches Bakterienchromosom BAC zur Klonsequenzierung</a:t>
            </a:r>
            <a:endParaRPr b="0" lang="en-US" sz="28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a:t>
            </a:r>
            <a:r>
              <a:rPr b="0" lang="de-DE" sz="3000" spc="-1" strike="noStrike">
                <a:solidFill>
                  <a:srgbClr val="000000"/>
                </a:solidFill>
                <a:latin typeface="Arial"/>
              </a:rPr>
              <a:t>high-throughput sequencing“ lässt mehr erkenn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66ff"/>
                </a:solidFill>
                <a:latin typeface="Arial"/>
              </a:rPr>
              <a:t>Comparative Metagenomics of Microbial Communities</a:t>
            </a:r>
            <a:endParaRPr b="0" lang="en-US" sz="3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e groß ist der Datenumfang?</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omprojekte haben meist ganzes Genom zum Ziel – nicht unbedingt nötig bzw. möglich</a:t>
            </a:r>
            <a:endParaRPr b="0" lang="en-US" sz="3000" spc="-1" strike="noStrike">
              <a:solidFill>
                <a:srgbClr val="000000"/>
              </a:solidFill>
              <a:latin typeface="Arial"/>
            </a:endParaRPr>
          </a:p>
          <a:p>
            <a:pPr marL="343080" indent="-343080">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0" lang="en-US" sz="3000" spc="-1" strike="noStrike">
                <a:solidFill>
                  <a:srgbClr val="000000"/>
                </a:solidFill>
                <a:latin typeface="Arial"/>
              </a:rPr>
              <a:t> </a:t>
            </a:r>
            <a:r>
              <a:rPr b="0" lang="en-US" sz="3000" spc="-1" strike="noStrike">
                <a:solidFill>
                  <a:srgbClr val="000000"/>
                </a:solidFill>
                <a:latin typeface="Arial"/>
              </a:rPr>
              <a:t>welche Proteine werden von Mirkobengemeinschaften codiert</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en anhand Funktion unterscheid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66ff"/>
                </a:solidFill>
                <a:latin typeface="Arial"/>
              </a:rPr>
              <a:t>Comparative Metagenomics of Microbial Communities</a:t>
            </a:r>
            <a:endParaRPr b="0" lang="en-US" sz="36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odenproben und Proben aus drei isolierten Tiefsee Walfriedhöfen </a:t>
            </a:r>
            <a:r>
              <a:rPr b="0" lang="de-DE" sz="2600" spc="-1" strike="noStrike">
                <a:solidFill>
                  <a:srgbClr val="000000"/>
                </a:solidFill>
                <a:latin typeface="Wingdings"/>
                <a:ea typeface="Wingdings"/>
              </a:rPr>
              <a:t></a:t>
            </a:r>
            <a:r>
              <a:rPr b="0" lang="de-DE" sz="2600" spc="-1" strike="noStrike">
                <a:solidFill>
                  <a:srgbClr val="000000"/>
                </a:solidFill>
                <a:latin typeface="Arial"/>
              </a:rPr>
              <a:t> nährstoffreich (Pflanzenreste, sehr lipidhaltige Knochen)</a:t>
            </a:r>
            <a:endParaRPr b="0" lang="en-US" sz="2600" spc="-1" strike="noStrike">
              <a:solidFill>
                <a:srgbClr val="000000"/>
              </a:solidFill>
              <a:latin typeface="Arial"/>
            </a:endParaRPr>
          </a:p>
          <a:p>
            <a:pPr marL="343080" indent="-343080">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iversitätsanalyse mit PCR</a:t>
            </a:r>
            <a:endParaRPr b="0" lang="en-US" sz="26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ckerboden: viele Bakterienarten, einige Archaespezies, Pilze, einzellige Eukaryoten </a:t>
            </a:r>
            <a:r>
              <a:rPr b="0" lang="en-US" sz="2400" spc="-1" strike="noStrike">
                <a:solidFill>
                  <a:srgbClr val="000000"/>
                </a:solidFill>
                <a:latin typeface="Arial Unicode MS"/>
                <a:ea typeface="Arial Unicode MS"/>
              </a:rPr>
              <a:t>Ʃ=847 verschiedene 16S rRNA Typen</a:t>
            </a:r>
            <a:endParaRPr b="0" lang="en-US" sz="2400" spc="-1" strike="noStrike">
              <a:solidFill>
                <a:srgbClr val="000000"/>
              </a:solidFill>
              <a:latin typeface="Arial"/>
            </a:endParaRPr>
          </a:p>
          <a:p>
            <a:pPr lvl="1" marL="743040" indent="-285840">
              <a:lnSpc>
                <a:spcPct val="10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iefsee: 25-150 verschiedene Ribo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66ff"/>
                </a:solidFill>
                <a:latin typeface="Arial"/>
              </a:rPr>
              <a:t>Comparative Metagenomics of Microbial Communities</a:t>
            </a:r>
            <a:endParaRPr b="0" lang="en-US" sz="3600" spc="-1" strike="noStrike">
              <a:solidFill>
                <a:srgbClr val="000000"/>
              </a:solidFill>
              <a:latin typeface="Arial"/>
            </a:endParaRPr>
          </a:p>
        </p:txBody>
      </p:sp>
      <p:pic>
        <p:nvPicPr>
          <p:cNvPr id="110" name="" descr=""/>
          <p:cNvPicPr/>
          <p:nvPr/>
        </p:nvPicPr>
        <p:blipFill>
          <a:blip r:embed="rId1"/>
          <a:stretch/>
        </p:blipFill>
        <p:spPr>
          <a:xfrm>
            <a:off x="3059280" y="1413000"/>
            <a:ext cx="4887720" cy="5445000"/>
          </a:xfrm>
          <a:prstGeom prst="rect">
            <a:avLst/>
          </a:prstGeom>
          <a:ln w="0">
            <a:noFill/>
          </a:ln>
        </p:spPr>
      </p:pic>
      <p:sp>
        <p:nvSpPr>
          <p:cNvPr id="111" name=""/>
          <p:cNvSpPr/>
          <p:nvPr/>
        </p:nvSpPr>
        <p:spPr>
          <a:xfrm>
            <a:off x="539640" y="1989000"/>
            <a:ext cx="25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gebnis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66ff"/>
                </a:solidFill>
                <a:latin typeface="Arial"/>
              </a:rPr>
              <a:t>Comparative Metagenomics of Microbial Communities</a:t>
            </a:r>
            <a:endParaRPr b="0" lang="en-US" sz="36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Vergleich der Leserahmen (assembled/unassembled) von Proben aus Ackerboden, 3 Walfriedhöfen, zusätzlich Biofilm aus einem Abfluss und die 3 Proben aus dem Sargassosee</a:t>
            </a:r>
            <a:endParaRPr b="0" lang="en-US" sz="2600" spc="-1" strike="noStrike">
              <a:solidFill>
                <a:srgbClr val="000000"/>
              </a:solidFill>
              <a:latin typeface="Arial"/>
            </a:endParaRPr>
          </a:p>
          <a:p>
            <a:pPr marL="343080" indent="-343080">
              <a:lnSpc>
                <a:spcPct val="10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Wingdings"/>
                <a:ea typeface="Wingdings"/>
              </a:rPr>
              <a:t></a:t>
            </a:r>
            <a:r>
              <a:rPr b="0" lang="de-DE" sz="2600" spc="-1" strike="noStrike">
                <a:solidFill>
                  <a:srgbClr val="000000"/>
                </a:solidFill>
                <a:latin typeface="Arial"/>
              </a:rPr>
              <a:t> </a:t>
            </a:r>
            <a:r>
              <a:rPr b="0" lang="de-DE" sz="2600" spc="-1" strike="noStrike">
                <a:solidFill>
                  <a:srgbClr val="000000"/>
                </a:solidFill>
                <a:latin typeface="Arial"/>
              </a:rPr>
              <a:t>mehr als 1/3 der EGTs enthalten ORFs, ½ der vorhergesagten Proteine wiesen Homologien zu orthologen Gruppen au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66ff"/>
                </a:solidFill>
                <a:latin typeface="Arial"/>
              </a:rPr>
              <a:t>Comparative Metagenomics of Microbial Communities</a:t>
            </a:r>
            <a:endParaRPr b="0" lang="en-US" sz="3600" spc="-1" strike="noStrike">
              <a:solidFill>
                <a:srgbClr val="000000"/>
              </a:solidFill>
              <a:latin typeface="Arial"/>
            </a:endParaRPr>
          </a:p>
        </p:txBody>
      </p:sp>
      <p:pic>
        <p:nvPicPr>
          <p:cNvPr id="115" name="" descr=""/>
          <p:cNvPicPr/>
          <p:nvPr/>
        </p:nvPicPr>
        <p:blipFill>
          <a:blip r:embed="rId1"/>
          <a:stretch/>
        </p:blipFill>
        <p:spPr>
          <a:xfrm>
            <a:off x="324000" y="1557360"/>
            <a:ext cx="8569080" cy="517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13:58:09Z</dcterms:created>
  <dc:creator>franzim</dc:creator>
  <dc:description/>
  <dc:language>en-US</dc:language>
  <cp:lastModifiedBy>Constumer</cp:lastModifiedBy>
  <dcterms:modified xsi:type="dcterms:W3CDTF">2006-05-29T14:41:15Z</dcterms:modified>
  <cp:revision>13</cp:revision>
  <dc:subject/>
  <dc:title>Comparative Metagenomics of Microbial Communities</dc:title>
</cp:coreProperties>
</file>