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2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72288" cy="10061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72400" cy="1006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8280" cy="503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95200" y="0"/>
            <a:ext cx="2978280" cy="503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  <a:defRPr b="0" lang="de-DE" sz="13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920520" y="754200"/>
            <a:ext cx="5033880" cy="3774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5840" y="4779720"/>
            <a:ext cx="5042160" cy="4529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9559800"/>
            <a:ext cx="2978280" cy="503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  <a:defRPr b="0" lang="de-DE" sz="13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95200" y="9559800"/>
            <a:ext cx="2978280" cy="503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  <a:defRPr b="0" lang="de-DE" sz="13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5C28B6A8-6E8C-433F-88F4-58C1385F90B5}" type="slidenum">
              <a:rPr b="0" lang="de-DE" sz="13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20880" y="754200"/>
            <a:ext cx="5033880" cy="37749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5840" y="4779720"/>
            <a:ext cx="5042160" cy="452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 FEMS Microbiology Review, Dezember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20880" y="754200"/>
            <a:ext cx="5033880" cy="37749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5840" y="4779720"/>
            <a:ext cx="5042160" cy="452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z.B. Mycobacterium leprae hat 2000 Gene verloren, 1000 nicht mehr funktionelle konnten noch nachgewiesen we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20880" y="754200"/>
            <a:ext cx="5033880" cy="37749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5840" y="4779720"/>
            <a:ext cx="5042160" cy="452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z.B. insertion sequence elements, Transposons, Plasmide und Bakterioph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20880" y="754200"/>
            <a:ext cx="5033880" cy="37749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5840" y="4779720"/>
            <a:ext cx="5042160" cy="452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otplot: Ähnlichkeiten nach Rechts in Grün, nach links in R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inks weitläufige In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echts Genom mit hoher Zahl an ISE (insertion specific elements)</a:t>
            </a:r>
            <a:r>
              <a:rPr b="0" lang="de-D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iele Rearrang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20880" y="754200"/>
            <a:ext cx="5033880" cy="37749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5840" y="4779720"/>
            <a:ext cx="5042160" cy="452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ootprinting: Trennung von Makrorestriktionsfragmenten durch pulse-field gel electrophor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20880" y="754200"/>
            <a:ext cx="5033880" cy="37749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5840" y="4779720"/>
            <a:ext cx="5042160" cy="452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ybridisierungswerte von 0-100% sind über 80-100% Sequenzübereinstimmung vertei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tunter Netzwerke notwendig um Verwandtschaft darzustellen (z.B. wg. HG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20880" y="754200"/>
            <a:ext cx="5033880" cy="37749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5840" y="4779720"/>
            <a:ext cx="5042160" cy="452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a größere Genome auch absolut mehr orthologe Gene besitz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20880" y="754200"/>
            <a:ext cx="5033880" cy="37749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5840" y="4779720"/>
            <a:ext cx="5042160" cy="452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üssen in vielen Taxa vorkommen, müssen einzigartig sein, müssen Sequenzierbar sein, müssen informativ genug s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20880" y="754200"/>
            <a:ext cx="5033880" cy="37749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5840" y="4779720"/>
            <a:ext cx="5042160" cy="452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+C-Anteil auch spezialisiert auf 3. Codon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icroarrays benötigen nicht unbedingt Kenntnis des ganzen Genoms der Organis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20880" y="754200"/>
            <a:ext cx="5033880" cy="37749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5840" y="4779720"/>
            <a:ext cx="5042160" cy="452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enomic signature=Vergleich von Nukleotid-Antei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20880" y="754200"/>
            <a:ext cx="5033880" cy="37749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5840" y="4779720"/>
            <a:ext cx="5042160" cy="452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i MLST Sequenzierung von House-Keeping-Genen um Diversität zu ermitte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z.B.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E.Coli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is zu 30%,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V. Cholerae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a. 1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20880" y="754200"/>
            <a:ext cx="5033880" cy="37749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5840" y="4779720"/>
            <a:ext cx="5042160" cy="452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z.B. Ecotypes, Bakterien, die in der selben ökologischen Nische le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20880" y="754200"/>
            <a:ext cx="5033880" cy="37749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5840" y="4779720"/>
            <a:ext cx="5042160" cy="452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6840" rIns="96840" tIns="48240" bIns="48240" anchor="t">
            <a:noAutofit/>
          </a:bodyPr>
          <a:p>
            <a:pPr>
              <a:spcBef>
                <a:spcPts val="104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99% der Bakterien gar nicht kultivierb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z.B wg. HG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8CF8-4320-4483-BFBD-72C50FAD0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91B6-2412-457F-80C9-7C2FC217A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BF0A-0709-429A-9480-2B4FFECED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F6F2-F0D0-4648-8A6B-A23370D5F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A6A7E-5936-4867-98AE-355E5665B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3D70B-6CFC-4EA4-A5BA-3EF2A232A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43AEF-B193-4370-82F7-638093A94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A4588-C36B-442E-8B33-B4D938C8A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292E1-7A3E-4510-9F67-B271868D9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E5DC9-F24D-46AC-AB95-264E28506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02DEB-A486-4824-8916-590E5EBC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F682-C397-4650-B8B6-2FB8D02B2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44C1E-469F-461C-9E1F-75AD3485E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B2BDD-BF12-4EE7-84C1-BE1F49B4A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0B0CB-6E70-40DA-873C-F55D38C33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F05AF-B74A-4B39-BDCA-5F2A31A65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187CB-E942-4FC7-9836-F4DDAD247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40C2-3AE4-4789-9A72-F64B4ECF3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0A5A-10C1-4A0E-9592-D76CD8A22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01CC-6CA5-4B51-8B6B-413975C6C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113F-4E29-4B65-9E1D-FE593C7B7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2884-D140-4E68-A592-930DF62FC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DA16-9F16-470F-BEF0-C86ACBB6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DD36-5020-450C-B2FE-E469BDDD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4AB41-CBEA-42EC-BFEC-86C76170ACE6}" type="datetime">
              <a:rPr b="0" lang="de-DE" sz="1400" spc="-1" strike="noStrike">
                <a:solidFill>
                  <a:srgbClr val="000000"/>
                </a:solidFill>
                <a:latin typeface="Tahom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CE673-D7C7-4644-B473-C2A0F96D5CF6}" type="slidenum">
              <a:rPr b="0" lang="de-DE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2556A-6150-4D77-A90A-2E622BCEE6AD}" type="datetime">
              <a:rPr b="0" lang="de-DE" sz="1400" spc="-1" strike="noStrike">
                <a:solidFill>
                  <a:srgbClr val="1c1c1c"/>
                </a:solidFill>
                <a:latin typeface="Tahom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0EF28-09F6-4460-A081-FC379D4CD858}" type="slidenum">
              <a:rPr b="0" lang="de-DE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Towards a prokaryotic genomic taxonom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80520" y="41148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Tom Coenye, Dirk Gevers, Yves Van de Peer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Peter Vandamme, Jean Sw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. Kaleta : Towards a prokaryotic genomic taxonom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DCDC7-48AF-4F23-B1D9-187E737F228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A3CBA694-50AD-475C-9FAE-80AE9A2283F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Genverlus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bakterielle Genome sind aufgrund begrenzter Reparaturmechanismen größenbeschränk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Genverlust wichtig um Größe des Genoms zu erhal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kann durch Mutationen, Chromosomen-rearrangements verursacht werd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bei parasitisch lebenden Bakterien teilweise massiver Genverlust </a:t>
            </a: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selektiver Vorte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. Kaleta : Towards a prokaryotic genomic taxonom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0C1A-2CDD-437B-B26F-E2783CE0E61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7CFAF7-0CD1-4097-8011-BF73CC669F8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Chromosomale-Rearrangement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häufige Rearrangements der Gene deutet an, dass deren Position nicht immer wichtig für ihre Funktion 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Rearrangements werden durch repeats und mobile Sequenzen geförd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reignisse können durch genomweiten Vergleich nachvollzogen werd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. Kaleta : Towards a prokaryotic genomic taxonom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B477-9C46-49F5-A099-FFD0E64F1F1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0F1FD7-26C1-41B0-8E36-9BB4B90F2C1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Chromosomale-Rearrangement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62120" y="2743200"/>
            <a:ext cx="3174840" cy="33037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809880" y="2743200"/>
            <a:ext cx="4957920" cy="33400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267080" y="220968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. Kaleta : Towards a prokaryotic genomic taxonom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F717-D24B-49FF-B154-F219D409682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A3E6A3-BD9E-4F0F-B97B-1D4F656BA8D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Folgen für die Taxonomi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npassung von Bakterien an neue Nischen meist durch Übernahme von Genen anderer Spezies (HG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beschriebene Veränderungen im Genom haben nur geringe Auswirkungen auf klassische Methoden der Phylogenierekonstruktion (G+C-Content, DNA-DNA-Hybridisierung, 16S rRNA-Sequenzieru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. Kaleta : Towards a prokaryotic genomic taxonom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C0C2-0624-434E-B9D1-4EDE383A660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CD58E8-A3C4-44C6-8940-EDD876D28F5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Folgen für die Taxonomi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Rearrangements und Entstehung von Restriktionsschnittstellen beeinflussen z.B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Footprinting“ über Restriktiosfragm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PCR-basierte Method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. Kaleta : Towards a prokaryotic genomic taxonom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750E-7DC6-4D5B-94D5-E390A506E59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6C7039-0A98-4FA6-9553-C392F31EF0E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Neue Methoden zur Phylogenierekonstruk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. Kaleta : Towards a prokaryotic genomic taxonom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BB17C-DD72-428A-AAF6-C7173627798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D30B9F13-F370-4FE0-8F1F-42343CE6E0C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Klassische Methoden der Phylogenierekonstruk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NA-Hybridisieru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funktioniert nur bei 80% Sequenzübereinstimmu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16S rRNA-Sequenzieru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97% 16S rRNA-Übereinstimmung gibt ca. 60% DNA-Hybridisierungswer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manchmal hohre 16S rRNA-Identität und geringe Hybridisieru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innerhalb einer Spezies teilweise weniger als 97% Übereinstimmu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. Kaleta : Towards a prokaryotic genomic taxonom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8BB2-F86D-47E9-BA0B-B0B95092F40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A49F6B-B7F1-411D-9790-6A4341E4353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Gene conten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Vergleich der orthologen Ge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von Definition und Identifizierung orthologer Gene abhängi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Zahl der orthologen Gene nimmt im Laufe der Evolution rapide a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mitunter mehr orthologe Gene mit entfernter verwandten Spezies in gleicher Nisch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Normalisierung der Daten auf Genomgröße notwendi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. Kaleta : Towards a prokaryotic genomic taxonom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DEA1-5184-4E06-B07F-85FA9BED24D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CF812C-F6DE-4B3F-8302-D134EF11956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Genreihenfolg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urch häufige Rearrangements gestö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wenn durchschnittliche Sequenzidentität zwischen orthologen Protein bei unter 50% kaum Ergebnisse meh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gut um Phylogenie nah verwandter Spezies zu rekonstruie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. Kaleta : Towards a prokaryotic genomic taxonom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61E0-EAE8-4539-B36D-3E2F7EA8752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DE24F2-191F-440B-BEF4-7D8708E6677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Sequenzvergleich von Makromoleküle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Vergleich von 16S rRNA und Housekeeping-Genen erzielt gute Resul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Genbäume spiegeln nicht die Speziesbäume wieder </a:t>
            </a: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Kombinierung der Genbäume mehrerer orthologer Proteine notwendi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wenn bei Genen kein HGT aufgetreten ist, können sie zur Rekonstruktion genutzt werde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gut um auf mittlerer Evolutionärer Skala Phylogenie zu rekonstruie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. Kaleta : Towards a prokaryotic genomic taxonom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2877-9D3C-4053-94DF-452F0BA21B6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EDFBF5-AA35-46FB-AE41-80AF8A03F91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Gliederu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Einleit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Das Bakterielle Gen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Evolutionäre Kräfte im Bakteriellen Gen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Neue Methoden zur Phylogenierekonstruk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usbli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. Kaleta : Towards a prokaryotic genomic taxonom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D171-DCEA-4829-936A-AF76B5AB2F7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4DAE1B-AFC6-407A-BAF1-4C1F846ED90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Sequenzvergleich von Makromoleküle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Housekeeping Gene sind oft hoch konserviert, aber nicht über alle bakteriellen Spezies verbrei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nsätze erarbeitet um Housekeeping-Genes zu find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wahrscheinlich kein universeller Anstz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verschiedene Ansätze könnten je nach Taxa gute Ergebnisse bring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. Kaleta : Towards a prokaryotic genomic taxonom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17E7-3321-45FE-9BF9-F62BC84E19A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CD615F-4876-4C5B-8AEE-0702077C6D8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Genome blast distance phylogeny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ufstellen einer Distanzmatrix zwischen den kompletten zu untersuchenden Genome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rmittlung des Phylogenetischen Baumes anhand der Distanzmatri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rgebnisse stimmen gut mit 16S rRNA-Phylogenie übere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. Kaleta : Towards a prokaryotic genomic taxonom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49FA-4858-4511-9A1D-69E1A409013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0D225F-7093-4C31-8CB6-B4BF19042A6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Weitere Methode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Vergleich der Existenz verschiedener Proteinfamili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Vergleich von Nukleotid-Anteilen im Genom, z.B G+C (aber kaum Ergebnisse für Codon-Usa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Vergleich metabolischer Reaktionsnetzwerk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gute Übereinstimmung mit Ergebnissen von 16S rRN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Vergleich mittels DNA-Microarr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. Kaleta : Towards a prokaryotic genomic taxonom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AC75-2A47-4CCA-9AB4-9AD88EF2F44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AF1E2A-527A-4608-81EE-76B3C5BB9A4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Vergleich der Methode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262160" y="2241720"/>
            <a:ext cx="6815160" cy="370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. Kaleta : Towards a prokaryotic genomic taxonom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B1C2-C8E4-4A6B-A3D5-26D5AF213EF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031520-BBDC-4FDE-8941-46EEAE8088D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Diversität innerhalb einer Spezi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kann mittels Multi-Locus-Sequence-Typing und Micro-Array-Hybridisierung ermittelt werd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manche Spezies mit hoher Diversität, andere nur mit niedrige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equenzierung von mehreren Genomen einer Spezies erlaubt bessere Einschätzung der Intraspezies-Diversitä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. Kaleta : Towards a prokaryotic genomic taxonom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D4AA-175A-4B8C-BBEE-6019B9B4D96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CC2230-4AAF-46C3-9349-4B1198193AC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Auswirkungen auf das bakterielle Spezieskonzep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zunehmende Verfügbarkeit von Genomsequenzen erlaubt phylogenetische Methoden in silico</a:t>
            </a:r>
            <a:r>
              <a:rPr b="0" i="1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zu simulie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mehrere unabhängige Ansätze führen zu besseren Ergebnissen </a:t>
            </a: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polyphasic taxonom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möglicherweise Entwicklung komplett neuer Spezieskonzep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. Kaleta : Towards a prokaryotic genomic taxonom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154A-7297-4F8E-91E7-4272393984E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E78110-AD48-41F2-972E-3953ECA7B59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Ausblick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equenzierte Bakterien sind kein Querschnitt über alle Bakterienar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hotgun-Sequencing einer Probe aus Sargasso-See beinhaltete Gensequenzen von 1800 Spezies, davon 148 bisher unbekan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Phylogenetische Bäume schränken Beziehungen zwischen Spezies zu sehr ei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phylogenetische Netzwer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. Kaleta : Towards a prokaryotic genomic taxonom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E1CD-FA72-4892-B835-33284144557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E2D0F6-2461-4C88-8B60-9A5F69BA67D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Einleitung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bakterielle Taxonomie ist unterschiedlich zur Eukaryotisch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ukaryotische Spezieskonzepte sind nur schwer anwendb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genetische Diversität zwischen Individuen einer Spezies bis zu 30% (</a:t>
            </a:r>
            <a:r>
              <a:rPr b="0" i="1" lang="de-DE" sz="2400" spc="-1" strike="noStrike">
                <a:solidFill>
                  <a:srgbClr val="000000"/>
                </a:solidFill>
                <a:latin typeface="Tahoma"/>
              </a:rPr>
              <a:t>E. Coli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zunehmende Verfügbarkeit ganzer Genomsequenz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ntwicklung neuer Methoden notwendi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. Kaleta : Towards a prokaryotic genomic taxonom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15E3-EB43-43CE-B041-7C1EB2682C5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942EF1-4589-4C31-9EB0-42021E0A843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Ein Bakterielles Spezieskonzep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Eine bakterielle Spezies bezeichnet eine vorzugsweiß genetisch einheitliche Gruppe von Individuen die unter vielen unabhängigen Aspekten hohe Ähnlichkeit zeige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Polyphasic taxonom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. Kaleta : Towards a prokaryotic genomic taxonom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41A9-9FB5-4C4F-B552-7304B861A1F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5F163D-B852-4C44-A68F-094E805C263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Praktisch anwendbare Spezieskonzept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Phänotypische Ähnlichke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76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76280" indent="-476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DNA-Hybridisierung bei min. 50-70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76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76280" indent="-476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97% Sequenzidentität in der 16S rR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76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76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Suche nach Alternativen Möglichkeiten um bakterielle Taxonomie aufzuklär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. Kaleta : Towards a prokaryotic genomic taxonom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67A7-03AC-4B17-A7B3-50D65D08378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9E4FED-2BBA-4E03-96A7-334D7BFFDF9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Das bakterielle Geno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viele komplette Genome verfügbar um Vergleiche anzustell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nnerhalb einer bakteriellen Spezies hohe Variabilität im Gen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Unterteilung des Genoms in Kern- gene und zusätzliche Ge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manche Bakterienarten können sich durch hohe Variabilität an verschiedene Umweltbedingungen anpass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. Kaleta : Towards a prokaryotic genomic taxonom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9E5A-D180-4C01-AF42-B3918F90BEF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E067DE-E276-46E4-81AB-318898988CA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Evolutionäre Kräfte im bakteriellen Geno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. Kaleta : Towards a prokaryotic genomic taxonom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0376B-59F2-4A63-AAC9-286F247AF15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5A5B5F0D-0973-4DBC-B62A-553F2F63435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Genduplik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m Gegensatz zu Eukaryoten bisher keine Genomduplikation beobach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her lokale Duplikation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viele Gene paralo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paraloge Gene ermöglichen es, sich an bestimmte Umweltbedingungen anzupass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. Kaleta : Towards a prokaryotic genomic taxonom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CBCA-9D4C-40A0-BAD3-E4D0007105A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DE6241-1895-4B16-9EEC-E57CEC4239F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Horizontaler Gentransfer (HGT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bisher vorwiegend bei Verbreitung von Antibiotika-Resistenz beobach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bis zu 10% der Gene durch HGT erworb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tritt besonders zwischen Bakterienarten einer Nische au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lternativ durch Genduplikation und linienspezifischen Verlust zu erklä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Unterteilung der Gene in 3 Ty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. Kaleta : Towards a prokaryotic genomic taxonom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8B20-143E-4C2A-8C16-FCB2A599FFF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32A491-DE54-4A4D-A8E6-75707833D7E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9T16:38:00Z</dcterms:created>
  <dc:creator>Christoph Kaleta</dc:creator>
  <dc:description/>
  <dc:language>en-US</dc:language>
  <cp:lastModifiedBy>Christoph Kaleta</cp:lastModifiedBy>
  <dcterms:modified xsi:type="dcterms:W3CDTF">2006-06-11T14:51:42Z</dcterms:modified>
  <cp:revision>24</cp:revision>
  <dc:subject/>
  <dc:title>Towards a prokaryotic taxonomy</dc:title>
</cp:coreProperties>
</file>