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1D1C-F7B2-40D6-B409-DD5D57F676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Und erlauben so erst genaue Alignments und aussagekräftige Verglei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echten Daten haben viele Sequenzen keine Ortholog im Men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aktisch sollten bessere Resultate als beim Alignieren einzelner Reads möglich s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ired-end r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s können zu längeren Contigs und Scaffolds zusammengesetzt we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ddy took the unusual step of publishing a conflict-of-interest statement in his article in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LoS Biology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at notes that he is associated with a genome sequencing center. “I was very conscious of conflict of interest considerations,�? he said. “Here I am sitting at a genome sequencing center saying that we need 100 genomes, not one. . . . But it's important for programmatic decisions that we try to do more modeling and pilot studies so that we can justify these millions of dollars spent on sequencing.�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C51B-4EAF-4622-9870-8536C8BB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BE5D-CBC6-43F4-A1A9-B8588CCB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4608-6AD1-48B8-ABF3-50ECC752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31D1-2722-44AB-AC9B-58850E3A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C937-5172-49E4-AC24-F2F26AD5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0F10-5F7F-4D2D-84C5-A329188A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C034-AAB6-4C7B-8E0A-22A799C1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4E55-A735-4EB8-9548-A6AD2CD7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C48E-3446-47CD-B359-B5D352CB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7670-CF18-4AFE-BF61-D53335CE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0E70-95CA-41B7-85F1-9359F072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50D3-13A1-4F52-ABA6-6BACB4A3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E003-8EC5-4D8A-85C5-49533844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02DA-BD47-45FB-9273-C24D270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05D0-1E87-4F28-A5F9-EAAAC235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FD61-DA36-44FB-B2F4-B0320EB5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C677-10C0-42D5-9159-583D75C9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5930-5D70-4C6B-9CBE-0BB917DB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3034-9350-40C0-880A-334C2634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0F5C-CD15-4D1D-868A-54A2315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9E0E-8544-4E1F-8EB6-3F478585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5BAD-110F-4A9B-AEC0-9186A4E0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901F-5A38-4A5A-BFB8-C440F5FC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DA60-8841-46C3-BA1B-ECF63D8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5633-8FFB-4960-B314-95E5D1E26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72A2-30A9-416D-AA55-311FCC47A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ffffff"/>
                </a:solidFill>
                <a:latin typeface="Arial"/>
              </a:rPr>
              <a:t>Comparative Sequenzierung beim Mensche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ine Strategie für den Anfa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bleibt zu klär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nn eine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ow-redundancy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equenz akkurat und vollständig relativ zum Ortholog im Mensch positioniert werd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ügen die resultierenden Alignments zur Identifizierung der konservierten Sequenzen im Mensc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lignment einzelner Rea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trachte Reads der Länge ~650 Ba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suche, diese mit dem menschl. Genom zu align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st mit simulierten Sequenzen zeigt, das Anteil korrekt positionierter Reads ab d ≥ 1 dramatisch abfäl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lignment einzelner 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70400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87960" cy="4303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Zum 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kation konservierter Regio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mulation mit rekonstruierten Datensätzen (ENCODE Reg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sembling und Alignment zum Men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95640" y="1773360"/>
            <a:ext cx="4967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tun mit 100Gb Kapazitä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Redundanz (7-f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zellente Assemblings und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 Säuger genügen nicht, um konservierte Regionen zu erke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lere Redundanz (2- oder 3-f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16 (11) Säugern MCS erfass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te Kontinuität und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wache Redundanz (1-f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2 Säuger bringen nur kleine Verbesserung der Sensitivität bei der Entdeckung von M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amatische Verschlechterung der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e Take Home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arative Genomanalyse ist ein mächtiger Ansatz um funktionelle Elemente zu fi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geringer Genomabdeckung lassen sich schon jetzt gute Aussagen über konservierte Regionen tre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Humangenom sequenziert – Und jetzt?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unktionelle Elemente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ur wenig Kenntnisse vorh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Vorhersage nur auf Basis der Sequenzdaten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dee: vergleiche orthologe Regionen verwandter Spez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mparative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ziere Regionen, welche stark konserviert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se stehen unter Evolutions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ist ein hochsensitiver Test für Fun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utation mit Abnahme der Fitness um 0.1% wird abgeleh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lgsgeschichte: Vergleich Mensch – M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nsch und 7 weitere Säuger komplett sequenzi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s genügt nicht, um die Konservation von Regionen zu bewe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7d"/>
                </a:solidFill>
                <a:latin typeface="Arial"/>
              </a:rPr>
              <a:t>Wie erhalte ich (mit akzeptablem Aufwand) ein </a:t>
            </a:r>
            <a:r>
              <a:rPr b="0" i="1" lang="de-DE" sz="3200" spc="-1" strike="noStrike">
                <a:solidFill>
                  <a:srgbClr val="00007d"/>
                </a:solidFill>
                <a:latin typeface="Arial"/>
              </a:rPr>
              <a:t>gutes</a:t>
            </a:r>
            <a:r>
              <a:rPr b="0" lang="de-DE" sz="3200" spc="-1" strike="noStrike">
                <a:solidFill>
                  <a:srgbClr val="00007d"/>
                </a:solidFill>
                <a:latin typeface="Arial"/>
              </a:rPr>
              <a:t> Resul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zahl der Spezi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15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 viele Spezies muss man sequenzieren, um funktionelle Elemente zu fi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.Eddy schlägt eine Formel dafür vor, b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andte Spezies in einem phylogenetischen Baum mit gleichen Distanzen der Gesamtlänge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mente der Län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ervationsrat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en für falsche Posive/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948360" y="4292640"/>
            <a:ext cx="10098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zahl der Spezi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hochkonservierten Sequenzen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= 20%) und Elementlänge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 ≥ 50: Vergleich Mensch – Maus genügt (D = 0.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 ≥ 8: D ≈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 ≥ 1: D ≈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ähle D ≈ 4 als Komprom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082520"/>
            <a:ext cx="6120000" cy="5775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 vorgeschlagener Ba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Komplettes Sequenzieren ist keine Lösu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2308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Id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wende low-redundancy Seque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21:00:44Z</dcterms:created>
  <dc:creator>torben mark</dc:creator>
  <dc:description/>
  <dc:language>en-US</dc:language>
  <cp:lastModifiedBy>torben mark</cp:lastModifiedBy>
  <dcterms:modified xsi:type="dcterms:W3CDTF">2006-05-22T13:38:50Z</dcterms:modified>
  <cp:revision>13</cp:revision>
  <dc:subject/>
  <dc:title>Comparative Sequencing</dc:title>
</cp:coreProperties>
</file>